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8.gif" ContentType="image/gif"/>
  <Override PartName="/ppt/media/image5.jpeg" ContentType="image/jpe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8607600" cy="2517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730080" y="4857120"/>
            <a:ext cx="8607600" cy="2517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4200480" cy="2517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40800" y="2100240"/>
            <a:ext cx="4200480" cy="2517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30080" y="4857120"/>
            <a:ext cx="4200480" cy="2517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40800" y="4857120"/>
            <a:ext cx="4200480" cy="2517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2771280" cy="2517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40320" y="2100240"/>
            <a:ext cx="2771280" cy="2517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50560" y="2100240"/>
            <a:ext cx="2771280" cy="2517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730080" y="4857120"/>
            <a:ext cx="2771280" cy="2517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640320" y="4857120"/>
            <a:ext cx="2771280" cy="2517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550560" y="4857120"/>
            <a:ext cx="2771280" cy="2517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730080" y="2100240"/>
            <a:ext cx="8607600" cy="52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8607600" cy="52783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4200480" cy="52783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140800" y="2100240"/>
            <a:ext cx="4200480" cy="52783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730080" y="639360"/>
            <a:ext cx="86076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12"/>
              </a:spcAft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4200480" cy="2517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40800" y="2100240"/>
            <a:ext cx="4200480" cy="52783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730080" y="4857120"/>
            <a:ext cx="4200480" cy="2517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730080" y="2100240"/>
            <a:ext cx="8607600" cy="52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4200480" cy="52783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40800" y="2100240"/>
            <a:ext cx="4200480" cy="2517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140800" y="4857120"/>
            <a:ext cx="4200480" cy="2517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4200480" cy="2517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40800" y="2100240"/>
            <a:ext cx="4200480" cy="2517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30080" y="4857120"/>
            <a:ext cx="8607600" cy="2517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8607600" cy="2517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730080" y="4857120"/>
            <a:ext cx="8607600" cy="2517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4200480" cy="2517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40800" y="2100240"/>
            <a:ext cx="4200480" cy="2517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30080" y="4857120"/>
            <a:ext cx="4200480" cy="2517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140800" y="4857120"/>
            <a:ext cx="4200480" cy="2517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2771280" cy="2517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640320" y="2100240"/>
            <a:ext cx="2771280" cy="2517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550560" y="2100240"/>
            <a:ext cx="2771280" cy="2517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730080" y="4857120"/>
            <a:ext cx="2771280" cy="2517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640320" y="4857120"/>
            <a:ext cx="2771280" cy="2517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550560" y="4857120"/>
            <a:ext cx="2771280" cy="2517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8607600" cy="52783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4200480" cy="52783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40800" y="2100240"/>
            <a:ext cx="4200480" cy="52783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30080" y="639360"/>
            <a:ext cx="86076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12"/>
              </a:spcAft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4200480" cy="2517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40800" y="2100240"/>
            <a:ext cx="4200480" cy="52783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730080" y="4857120"/>
            <a:ext cx="4200480" cy="2517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4200480" cy="52783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40800" y="2100240"/>
            <a:ext cx="4200480" cy="2517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40800" y="4857120"/>
            <a:ext cx="4200480" cy="2517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4200480" cy="2517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40800" y="2100240"/>
            <a:ext cx="4200480" cy="2517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30080" y="4857120"/>
            <a:ext cx="8607600" cy="2517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21880" y="2138040"/>
            <a:ext cx="841716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730080" y="2100240"/>
            <a:ext cx="8607600" cy="52783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AutoShape 4"/>
          <p:cNvSpPr/>
          <p:nvPr/>
        </p:nvSpPr>
        <p:spPr>
          <a:xfrm>
            <a:off x="0" y="0"/>
            <a:ext cx="1512720" cy="7559640"/>
          </a:xfrm>
          <a:custGeom>
            <a:avLst/>
            <a:gdLst>
              <a:gd name="textAreaLeft" fmla="*/ 360 w 1512720"/>
              <a:gd name="textAreaRight" fmla="*/ 1512360 w 151272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107923">
                <a:moveTo>
                  <a:pt x="22" y="0"/>
                </a:moveTo>
                <a:arcTo wR="22" hR="22" stAng="16200000" swAng="-5400000"/>
                <a:lnTo>
                  <a:pt x="0" y="107901"/>
                </a:lnTo>
                <a:arcTo wR="22" hR="22" stAng="10800000" swAng="-5400000"/>
                <a:lnTo>
                  <a:pt x="21578" y="107923"/>
                </a:lnTo>
                <a:arcTo wR="22" hR="22" stAng="5400000" swAng="-5400000"/>
                <a:lnTo>
                  <a:pt x="21600" y="22"/>
                </a:lnTo>
                <a:arcTo wR="22" hR="22" stAng="0" swAng="-5400000"/>
                <a:close/>
              </a:path>
            </a:pathLst>
          </a:custGeom>
          <a:solidFill>
            <a:srgbClr val="000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5"/>
          <p:cNvSpPr/>
          <p:nvPr/>
        </p:nvSpPr>
        <p:spPr>
          <a:xfrm>
            <a:off x="1527120" y="0"/>
            <a:ext cx="38160" cy="7559640"/>
          </a:xfrm>
          <a:custGeom>
            <a:avLst/>
            <a:gdLst>
              <a:gd name="textAreaLeft" fmla="*/ 360 w 38160"/>
              <a:gd name="textAreaRight" fmla="*/ 37800 w 3816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4239252">
                <a:moveTo>
                  <a:pt x="900" y="0"/>
                </a:moveTo>
                <a:arcTo wR="900" hR="900" stAng="16200000" swAng="-5400000"/>
                <a:lnTo>
                  <a:pt x="0" y="4238352"/>
                </a:lnTo>
                <a:arcTo wR="900" hR="900" stAng="10800000" swAng="-5400000"/>
                <a:lnTo>
                  <a:pt x="20700" y="4239252"/>
                </a:lnTo>
                <a:arcTo wR="900" hR="900" stAng="5400000" swAng="-5400000"/>
                <a:lnTo>
                  <a:pt x="21600" y="900"/>
                </a:lnTo>
                <a:arcTo wR="900" hR="900" stAng="0" swAng="-5400000"/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25480" y="20808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Алеша Попови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682640" y="0"/>
            <a:ext cx="8398080" cy="80265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3" descr=""/>
          <p:cNvPicPr/>
          <p:nvPr/>
        </p:nvPicPr>
        <p:blipFill>
          <a:blip r:embed="rId1"/>
          <a:stretch/>
        </p:blipFill>
        <p:spPr>
          <a:xfrm>
            <a:off x="2397240" y="1208160"/>
            <a:ext cx="6072120" cy="60721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https://www.rusvelikaia.ru/upload/iblock/89b/2938321f6f79c91d94e81108656c02eb.jpg"/>
          <p:cNvPicPr/>
          <p:nvPr/>
        </p:nvPicPr>
        <p:blipFill>
          <a:blip r:embed="rId1"/>
          <a:stretch/>
        </p:blipFill>
        <p:spPr>
          <a:xfrm>
            <a:off x="1325520" y="279360"/>
            <a:ext cx="8166240" cy="6566040"/>
          </a:xfrm>
          <a:prstGeom prst="rect">
            <a:avLst/>
          </a:prstGeom>
          <a:ln w="0">
            <a:noFill/>
          </a:ln>
        </p:spPr>
      </p:pic>
      <p:sp>
        <p:nvSpPr>
          <p:cNvPr id="84" name="Прямоугольник 3"/>
          <p:cNvSpPr/>
          <p:nvPr/>
        </p:nvSpPr>
        <p:spPr>
          <a:xfrm>
            <a:off x="1539720" y="6851520"/>
            <a:ext cx="79297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ＭＳ Ｐ明朝"/>
              </a:rPr>
              <a:t>Добрыня Никитич, Илья Муромец и Алёша Попови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54240" y="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Кто такой Алеша Попович</a:t>
            </a:r>
            <a:r>
              <a:rPr b="1" lang="ru-RU" sz="3600" spc="-1" strike="noStrike">
                <a:solidFill>
                  <a:srgbClr val="000066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5" descr="http://prosushi.in.ua/uploads/peredelannoe-alesha-popovich.jpg"/>
          <p:cNvPicPr/>
          <p:nvPr/>
        </p:nvPicPr>
        <p:blipFill>
          <a:blip r:embed="rId1"/>
          <a:stretch/>
        </p:blipFill>
        <p:spPr>
          <a:xfrm>
            <a:off x="396720" y="35100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http://aura-dione.ru/gallery/images/160562_alesha-popovich-risunok.jpg"/>
          <p:cNvPicPr/>
          <p:nvPr/>
        </p:nvPicPr>
        <p:blipFill>
          <a:blip r:embed="rId1"/>
          <a:stretch/>
        </p:blipFill>
        <p:spPr>
          <a:xfrm>
            <a:off x="3540240" y="69840"/>
            <a:ext cx="4286160" cy="74898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900000"/>
            <a:ext cx="10080720" cy="61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1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1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6" descr="Алёша Попович"/>
          <p:cNvPicPr/>
          <p:nvPr/>
        </p:nvPicPr>
        <p:blipFill>
          <a:blip r:embed="rId1"/>
          <a:stretch/>
        </p:blipFill>
        <p:spPr>
          <a:xfrm>
            <a:off x="2754360" y="303120"/>
            <a:ext cx="5286240" cy="70534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C:\Users\Марина\Desktop\a76eb5c7bbb3a3a86da09fe2cb6ad93a.gif"/>
          <p:cNvPicPr/>
          <p:nvPr/>
        </p:nvPicPr>
        <p:blipFill>
          <a:blip r:embed="rId1"/>
          <a:stretch/>
        </p:blipFill>
        <p:spPr>
          <a:xfrm>
            <a:off x="2897280" y="1279440"/>
            <a:ext cx="1904760" cy="18576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C:\Users\Марина\Desktop\a76eb5c7bbb3a3a86da09fe2cb6ad93a.gif"/>
          <p:cNvPicPr/>
          <p:nvPr/>
        </p:nvPicPr>
        <p:blipFill>
          <a:blip r:embed="rId2"/>
          <a:stretch/>
        </p:blipFill>
        <p:spPr>
          <a:xfrm>
            <a:off x="6111720" y="565200"/>
            <a:ext cx="1905120" cy="18572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C:\Users\Марина\Desktop\a76eb5c7bbb3a3a86da09fe2cb6ad93a.gif"/>
          <p:cNvPicPr/>
          <p:nvPr/>
        </p:nvPicPr>
        <p:blipFill>
          <a:blip r:embed="rId3"/>
          <a:stretch/>
        </p:blipFill>
        <p:spPr>
          <a:xfrm>
            <a:off x="6040440" y="3922560"/>
            <a:ext cx="1905120" cy="18576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C:\Users\Марина\Desktop\a76eb5c7bbb3a3a86da09fe2cb6ad93a.gif"/>
          <p:cNvPicPr/>
          <p:nvPr/>
        </p:nvPicPr>
        <p:blipFill>
          <a:blip r:embed="rId4"/>
          <a:stretch/>
        </p:blipFill>
        <p:spPr>
          <a:xfrm>
            <a:off x="1825560" y="4923000"/>
            <a:ext cx="1905120" cy="18572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3T10:58:44Z</dcterms:created>
  <dc:creator>User</dc:creator>
  <dc:description>Общая презентация нового продукта, учитывающая пожелания заказчика</dc:description>
  <dc:language>en-US</dc:language>
  <cp:lastModifiedBy>User</cp:lastModifiedBy>
  <dcterms:modified xsi:type="dcterms:W3CDTF">2017-11-17T07:22:54Z</dcterms:modified>
  <cp:revision>15</cp:revision>
  <dc:subject/>
  <dc:title>Презентация нового продукта</dc:title>
</cp:coreProperties>
</file>