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A29-75B7-48FE-901D-93C25D84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DA3-72BC-4C89-BB0B-F6E3A52A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826-DFCC-457C-AEF7-EBC423DC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F51-14B5-4543-ABDF-2561C0E4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BE7-358D-4938-B3D4-014CB717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0CC-F7D6-4DB4-A530-BA065723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B14-7A9F-4BCC-BBF1-EAC6AB61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8290-4F4E-4E68-8F99-08C32314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92C-28BC-4E4D-B7BF-84AFC8F6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FB9-BF66-407A-9E69-C37ED3F6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E33-10C8-450C-86D7-C3844AA5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DA6-0461-4DC9-9292-D81A568F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6279-6EE8-42A1-A6CF-2C5DCFAEA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000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По щучьему велень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6498720"/>
            <a:ext cx="640080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Художник Сергий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emelya_3"/>
          <p:cNvPicPr/>
          <p:nvPr/>
        </p:nvPicPr>
        <p:blipFill>
          <a:blip r:embed="rId1"/>
          <a:stretch/>
        </p:blipFill>
        <p:spPr>
          <a:xfrm>
            <a:off x="1000080" y="214200"/>
            <a:ext cx="7072200" cy="521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449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908000" y="3357720"/>
            <a:ext cx="541044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КОНЕЦ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emelya_1"/>
          <p:cNvPicPr/>
          <p:nvPr/>
        </p:nvPicPr>
        <p:blipFill>
          <a:blip r:embed="rId1"/>
          <a:stretch/>
        </p:blipFill>
        <p:spPr>
          <a:xfrm>
            <a:off x="243000" y="189000"/>
            <a:ext cx="8686800" cy="64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emelya_2"/>
          <p:cNvPicPr/>
          <p:nvPr/>
        </p:nvPicPr>
        <p:blipFill>
          <a:blip r:embed="rId1"/>
          <a:stretch/>
        </p:blipFill>
        <p:spPr>
          <a:xfrm>
            <a:off x="258840" y="214200"/>
            <a:ext cx="8670960" cy="639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emelya_3"/>
          <p:cNvPicPr/>
          <p:nvPr/>
        </p:nvPicPr>
        <p:blipFill>
          <a:blip r:embed="rId1"/>
          <a:stretch/>
        </p:blipFill>
        <p:spPr>
          <a:xfrm>
            <a:off x="324000" y="189000"/>
            <a:ext cx="8462880" cy="62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emelya_4"/>
          <p:cNvPicPr/>
          <p:nvPr/>
        </p:nvPicPr>
        <p:blipFill>
          <a:blip r:embed="rId1"/>
          <a:stretch/>
        </p:blipFill>
        <p:spPr>
          <a:xfrm>
            <a:off x="285840" y="285840"/>
            <a:ext cx="85788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melya_5"/>
          <p:cNvPicPr/>
          <p:nvPr/>
        </p:nvPicPr>
        <p:blipFill>
          <a:blip r:embed="rId1"/>
          <a:stretch/>
        </p:blipFill>
        <p:spPr>
          <a:xfrm>
            <a:off x="241200" y="189000"/>
            <a:ext cx="854568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emelya_7"/>
          <p:cNvPicPr/>
          <p:nvPr/>
        </p:nvPicPr>
        <p:blipFill>
          <a:blip r:embed="rId1"/>
          <a:stretch/>
        </p:blipFill>
        <p:spPr>
          <a:xfrm>
            <a:off x="428760" y="189000"/>
            <a:ext cx="8426160" cy="62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emelya_11"/>
          <p:cNvPicPr/>
          <p:nvPr/>
        </p:nvPicPr>
        <p:blipFill>
          <a:blip r:embed="rId1"/>
          <a:stretch/>
        </p:blipFill>
        <p:spPr>
          <a:xfrm>
            <a:off x="285840" y="214200"/>
            <a:ext cx="852804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emelya_13"/>
          <p:cNvPicPr/>
          <p:nvPr/>
        </p:nvPicPr>
        <p:blipFill>
          <a:blip r:embed="rId1"/>
          <a:stretch/>
        </p:blipFill>
        <p:spPr>
          <a:xfrm>
            <a:off x="357120" y="285840"/>
            <a:ext cx="8458200" cy="623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5:55:08Z</dcterms:created>
  <dc:creator>Interbaby</dc:creator>
  <dc:description/>
  <dc:language>en-US</dc:language>
  <cp:lastModifiedBy>User</cp:lastModifiedBy>
  <dcterms:modified xsi:type="dcterms:W3CDTF">2017-12-20T13:27:04Z</dcterms:modified>
  <cp:revision>22</cp:revision>
  <dc:subject/>
  <dc:title>По щучьему веленью</dc:title>
</cp:coreProperties>
</file>